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385-F4DE-46A1-A63A-B91AED1D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07E-48C9-4BD9-9E25-10FFCE8A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8DD-CF49-4FA2-8B63-13A4C517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ECD-094D-42C8-9629-2C2944BE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5D8-DDD7-4BAF-A8BB-2C666F53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7CE7-AD9A-48B5-9632-91A66752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FD88-BC1C-40CB-8B40-AADE3785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115-C787-4A83-B5BB-3E9FDFD0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D72-F565-4514-A8F8-69100CB2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5C89-4DE1-4465-8FA6-0439E157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EDD-6EEA-402A-A821-202CF355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D3DF-D72C-4BB4-9408-2B3C2798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C47E-53C4-4E11-9637-2C297429E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ersonian Revolu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279-28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or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iciary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bury vs. Mad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isiana 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and Cl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with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. Madison’s Wa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290-2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with 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estic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 the Comba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events – Dead Trolls S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y of Gh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and Political Issu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295-3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tutional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 of Ok feel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m ok, you’re 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ic of 18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of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ouri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/Win or Lose/L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ion of 18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estic and Foreign Issu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295-3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rida Purchase Treaty of 18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son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view of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roe Doct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Democrac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351-35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e of the Common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/ Con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of 18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y-Adams Barg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Quincy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Jackson Presidenc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362-3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of 18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rev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il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ticoat 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or the rights of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0:25:14Z</dcterms:created>
  <dc:creator>School District U46</dc:creator>
  <dc:description/>
  <dc:language>en-US</dc:language>
  <cp:lastModifiedBy>School District U46</cp:lastModifiedBy>
  <dcterms:modified xsi:type="dcterms:W3CDTF">2009-10-07T00:25:52Z</dcterms:modified>
  <cp:revision>1</cp:revision>
  <dc:subject/>
  <dc:title>Slide 1</dc:title>
</cp:coreProperties>
</file>